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A807-42EB-43A1-A169-9899A01B2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1247-36FE-4AA4-9CBA-CE157C641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1137-606E-4FE2-85A4-7404BBF99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C9AA-9E38-4F28-A4DD-78B3BF475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4A8B-D405-4B6F-90B5-09A032482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8071-857A-4503-8A2B-2A9F531C5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3C55-1B27-4869-8043-095EE7280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0988-ABE7-4C6C-93F7-88D53813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A712-A656-437F-84FB-35461BA1F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4E57-CEC1-477B-BF56-A619DB130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516-30F8-4290-B251-3005FBAB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66B-68BF-4722-B775-967B7DFB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9A7-60CD-4B45-AC6A-0865EAA3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2C3-B01C-4156-9341-2429F105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442-4DBF-4211-8F19-0BCB67EC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460-489A-4F71-978B-5A51B19E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9B9-5DB6-4033-881A-2A3D7C4B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4BC-A791-49BE-B329-0A00FD26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DB8-8678-4522-AFBF-45C1538C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AD4-3636-4FDB-BA63-73CEF096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3CE-31E3-4B33-BCC2-3868759D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433-4E43-479E-8B62-E3F07558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CEF6-731A-4549-826D-7355C054E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52680" y="609480"/>
            <a:ext cx="440712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rmy Traffic Safety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TRODUCTORY COUR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MPj04004650000[1]"/>
          <p:cNvPicPr/>
          <p:nvPr/>
        </p:nvPicPr>
        <p:blipFill>
          <a:blip r:embed="rId1"/>
          <a:stretch/>
        </p:blipFill>
        <p:spPr>
          <a:xfrm>
            <a:off x="419040" y="825480"/>
            <a:ext cx="2286000" cy="344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MPj03997210000[1]"/>
          <p:cNvPicPr/>
          <p:nvPr/>
        </p:nvPicPr>
        <p:blipFill>
          <a:blip r:embed="rId2"/>
          <a:stretch/>
        </p:blipFill>
        <p:spPr>
          <a:xfrm>
            <a:off x="5486400" y="2666880"/>
            <a:ext cx="3195720" cy="2130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"/>
          <p:cNvSpPr/>
          <p:nvPr/>
        </p:nvSpPr>
        <p:spPr>
          <a:xfrm>
            <a:off x="7924680" y="6375240"/>
            <a:ext cx="110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SP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completion of this lesson, you [the student]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 Recogn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ent features of an effective Traffic Safet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lassroom environment with facilitated group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: Recogn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ent features of an effective Driver Safety Program on a multiple choice test with 80% accu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8001000" y="637524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SP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nabling 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14400" y="1828800"/>
            <a:ext cx="72388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risks associated with 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four main principles of Composite Risk Management (C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hree parts of the ACT (assess the situation, consider options, take actio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to 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five good driving habits you can liv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7924680" y="637524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Your Risks While Dr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irment (fatigue, alcohol or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wearing seatbe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too 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ding motor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848720" y="6375240"/>
            <a:ext cx="11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mposite Risk Management (CR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 unnecessary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isk decisions at the appropriat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 risks only when the benefit outweighs th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CRM into every level of planning and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be risk a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924680" y="637524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AC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ssess the situation (what if..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nsider the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ak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01000" y="6375240"/>
            <a:ext cx="10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Five Driving Habits You Can Live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 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speed t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e your int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and maintain your veh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924680" y="637524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isk behaviors to av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driving while im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not wearing seat be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 of driving at excessive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gers of following too 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924680" y="637524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3520" y="1600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is training you observed 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620120" y="637524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571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completion of this lesson, you [the student]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 Recogn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ent features of an effective Traffic Safet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lassroom environment with facilitated group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: Recogn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ent features of an effective Traffic Safety Program on a multiple choice test with 80% accu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0" y="5334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re there any Questions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16:17:29Z</dcterms:created>
  <dc:creator/>
  <dc:description/>
  <dc:language>en-US</dc:language>
  <cp:lastModifiedBy/>
  <dcterms:modified xsi:type="dcterms:W3CDTF">2014-12-09T16:17:32Z</dcterms:modified>
  <cp:revision>1</cp:revision>
  <dc:subject/>
  <dc:title/>
</cp:coreProperties>
</file>